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87A-8891-4BB0-8DF7-684CC052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96B8-9298-495B-A11D-9BCF07A7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9EC2-9D21-48BF-8B23-09832CAE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76FA-0408-42F0-8F71-BBEDCF7A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9AA8-EA54-449D-BE35-A508E916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3373-50E3-417C-8796-942E9C84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C9D-D5A3-4BE2-AA34-C7DD60DD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4E0A-03F1-491A-9472-7749702C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59B9-B143-4F57-B4AD-55FD267B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7D8-01C0-4064-98FB-F2585238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9FFE-2251-4B02-A962-2F4C44B8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0932-34A2-4D14-97D2-D831A583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7976-7880-478A-B421-AB88B16C4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859280" y="3030480"/>
            <a:ext cx="582480" cy="331560"/>
            <a:chOff x="4859280" y="30304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89456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4736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5928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2304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136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8176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5928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928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8176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728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12820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8300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968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17320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08428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 vibes centered ov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211640" y="1366920"/>
            <a:ext cx="582120" cy="331200"/>
            <a:chOff x="4211640" y="1366920"/>
            <a:chExt cx="582120" cy="331200"/>
          </a:xfrm>
        </p:grpSpPr>
        <p:sp>
          <p:nvSpPr>
            <p:cNvPr id="73" name=""/>
            <p:cNvSpPr/>
            <p:nvPr/>
          </p:nvSpPr>
          <p:spPr>
            <a:xfrm>
              <a:off x="424692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9936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164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504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9372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3376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1164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164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337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25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48056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3500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1168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52556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43664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834080" y="1379520"/>
            <a:ext cx="582120" cy="331560"/>
            <a:chOff x="4834080" y="1379520"/>
            <a:chExt cx="582120" cy="331560"/>
          </a:xfrm>
        </p:grpSpPr>
        <p:sp>
          <p:nvSpPr>
            <p:cNvPr id="90" name=""/>
            <p:cNvSpPr/>
            <p:nvPr/>
          </p:nvSpPr>
          <p:spPr>
            <a:xfrm>
              <a:off x="4869360" y="15436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21800" y="15436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34080" y="15627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97480" y="16196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16160" y="14598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56200" y="14900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34080" y="14428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34080" y="15958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5620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4764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5103000" y="16387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57440" y="13795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120" y="13914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514800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05908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224240" y="3030480"/>
            <a:ext cx="582480" cy="331560"/>
            <a:chOff x="4224240" y="30304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425952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232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2424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8800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0632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4672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2424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424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4672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780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49316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796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64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53816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449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09:26Z</dcterms:modified>
  <cp:revision>32</cp:revision>
  <dc:subject/>
  <dc:title>No Slide Title</dc:title>
</cp:coreProperties>
</file>