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571-49F3-4D44-B986-88C551A5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B69-0594-4403-9D3B-71EED9C6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E38-A354-45A3-9377-926D77FC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AB9-3C89-4B8B-A72C-7B43162B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384-2999-4FD4-A92F-653850E2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BE4-B3E9-4178-971A-65EB936A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17B-F876-4341-A55C-7C628D70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441-070D-44CF-825A-7CDBBF5A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B25-6819-4655-9C62-92490813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80A-A7CA-41F1-B824-5FD2D2C0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D06-2E35-44D9-BA0A-B042E098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0AF-4FFF-4B7A-BE09-5E6CCC7C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1C36-0BE4-446A-8AD7-2190CA9AC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73760" y="3005280"/>
            <a:ext cx="582120" cy="331200"/>
            <a:chOff x="4973760" y="3005280"/>
            <a:chExt cx="582120" cy="331200"/>
          </a:xfrm>
        </p:grpSpPr>
        <p:sp>
          <p:nvSpPr>
            <p:cNvPr id="42" name=""/>
            <p:cNvSpPr/>
            <p:nvPr/>
          </p:nvSpPr>
          <p:spPr>
            <a:xfrm>
              <a:off x="5009040" y="31690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1480" y="31690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73760" y="318816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37160" y="32450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55840" y="30852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5880" y="31158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73760" y="30686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3760" y="32216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588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8732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242680" y="32641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7120" y="300528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73800" y="30171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28768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19876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rag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 first vibes back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 meter move 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nding on second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ront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70440" y="1392120"/>
            <a:ext cx="582120" cy="331560"/>
            <a:chOff x="3970440" y="1392120"/>
            <a:chExt cx="582120" cy="331560"/>
          </a:xfrm>
        </p:grpSpPr>
        <p:sp>
          <p:nvSpPr>
            <p:cNvPr id="73" name=""/>
            <p:cNvSpPr/>
            <p:nvPr/>
          </p:nvSpPr>
          <p:spPr>
            <a:xfrm>
              <a:off x="4005720" y="15562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8160" y="15562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0440" y="15753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3840" y="16322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52520" y="14724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2560" y="15026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70440" y="14554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0440" y="16084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256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400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239360" y="16513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93800" y="13921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70480" y="14040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28436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9544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18080" y="1366920"/>
            <a:ext cx="582120" cy="331200"/>
            <a:chOff x="461808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65336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0580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808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016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4020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808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1808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40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164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88700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4144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1812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32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84308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51320" y="3030480"/>
            <a:ext cx="582120" cy="331560"/>
            <a:chOff x="4351320" y="3030480"/>
            <a:chExt cx="582120" cy="331560"/>
          </a:xfrm>
        </p:grpSpPr>
        <p:sp>
          <p:nvSpPr>
            <p:cNvPr id="106" name=""/>
            <p:cNvSpPr/>
            <p:nvPr/>
          </p:nvSpPr>
          <p:spPr>
            <a:xfrm>
              <a:off x="438660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904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1320" y="321372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472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3400" y="311076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344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5132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34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488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62024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4680" y="303048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136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665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57632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14:22Z</dcterms:modified>
  <cp:revision>33</cp:revision>
  <dc:subject/>
  <dc:title>No Slide Title</dc:title>
</cp:coreProperties>
</file>