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D89-203C-47D9-AF05-E3EF8997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08F0-D34A-4EE7-83A2-5103EA4A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BCB-FBE1-4A75-B0BD-7D33CE1C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2CE-E4CD-483F-BB47-47F0552E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FCB3-4CCE-49A9-AE50-44407107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F272-CF2D-4E3E-B345-67F0FCCC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20E3-3A89-43E0-A26D-CECAB0D0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DA3C-C7E9-4DDD-9958-802C8685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3122-E880-4632-B88A-645F2223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42EB-B221-4BA0-9756-1249C5A2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7B6-B8BC-4C51-BDDF-F7D14150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88F-470F-4EA8-9CB0-47127C3D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BC9B-51E5-44F4-999D-25CDC1F7F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08520" y="3043080"/>
            <a:ext cx="582120" cy="331560"/>
            <a:chOff x="4808520" y="3043080"/>
            <a:chExt cx="582120" cy="331560"/>
          </a:xfrm>
        </p:grpSpPr>
        <p:sp>
          <p:nvSpPr>
            <p:cNvPr id="42" name=""/>
            <p:cNvSpPr/>
            <p:nvPr/>
          </p:nvSpPr>
          <p:spPr>
            <a:xfrm>
              <a:off x="4843800" y="32072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96240" y="32072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08520" y="322632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71920" y="32832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90600" y="312336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30640" y="31536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08520" y="31064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8520" y="32594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30640" y="30920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22080" y="30920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077440" y="33022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1880" y="304308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08560" y="30549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22440" y="30621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33520" y="30621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835280" y="1692360"/>
            <a:ext cx="329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86160" y="336852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2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5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10000" y="4368960"/>
            <a:ext cx="2919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V.P.  DRAG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Pad 2 meters before fl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 meter move up ending 2 meters after flag sweep three                            on fl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 METER DRAG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ONE V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211640" y="1341360"/>
            <a:ext cx="582120" cy="331560"/>
            <a:chOff x="4211640" y="1341360"/>
            <a:chExt cx="582120" cy="331560"/>
          </a:xfrm>
        </p:grpSpPr>
        <p:sp>
          <p:nvSpPr>
            <p:cNvPr id="74" name=""/>
            <p:cNvSpPr/>
            <p:nvPr/>
          </p:nvSpPr>
          <p:spPr>
            <a:xfrm>
              <a:off x="4246920" y="15055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99360" y="15055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11640" y="152460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75040" y="15814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93720" y="14216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33760" y="145188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40472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11640" y="155772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33760" y="13903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25200" y="13903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4480560" y="16005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35000" y="134136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11680" y="135324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525560" y="13604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4436640" y="13604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05:02Z</dcterms:modified>
  <cp:revision>31</cp:revision>
  <dc:subject/>
  <dc:title>No Slide Title</dc:title>
</cp:coreProperties>
</file>