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118-C85D-4ABD-8C69-CC7A2AEF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634-7311-476F-9CF8-F0C6D012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D05-3FD0-484E-A975-84E6122E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F8C-EC9C-4F5E-982A-3BF9A99D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B2E-3484-4FE6-8278-9FB1F172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C0C-B0C8-4F08-A2BA-18A465A6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8FA-2914-49F7-B62B-B1888963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290-1672-4FEE-9DA9-B9C4448B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C34-3DE0-4344-9E16-0AF8AEB5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047-7970-4F8E-B25F-F120F1FD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646-2270-49F7-BA28-9A26BB86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26B-B61C-48DD-858A-6D946A8E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E530-F275-4F52-946E-A46D5376A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973760" y="3005280"/>
            <a:ext cx="582120" cy="331200"/>
            <a:chOff x="4973760" y="3005280"/>
            <a:chExt cx="582120" cy="331200"/>
          </a:xfrm>
        </p:grpSpPr>
        <p:sp>
          <p:nvSpPr>
            <p:cNvPr id="42" name=""/>
            <p:cNvSpPr/>
            <p:nvPr/>
          </p:nvSpPr>
          <p:spPr>
            <a:xfrm>
              <a:off x="5009040" y="31690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61480" y="31690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73760" y="318816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37160" y="32450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55840" y="30852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95880" y="31158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73760" y="30686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73760" y="32216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588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8732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242680" y="32641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97120" y="300528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73800" y="30171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28768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19876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rag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 first vibes back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 meter move 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nding on second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ront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70440" y="1392120"/>
            <a:ext cx="582120" cy="331560"/>
            <a:chOff x="3970440" y="1392120"/>
            <a:chExt cx="582120" cy="331560"/>
          </a:xfrm>
        </p:grpSpPr>
        <p:sp>
          <p:nvSpPr>
            <p:cNvPr id="73" name=""/>
            <p:cNvSpPr/>
            <p:nvPr/>
          </p:nvSpPr>
          <p:spPr>
            <a:xfrm>
              <a:off x="4005720" y="15562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8160" y="15562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0440" y="15753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33840" y="16322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52520" y="14724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92560" y="15026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70440" y="14554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70440" y="16084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256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8400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239360" y="16513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93800" y="13921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70480" y="14040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28436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9544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18080" y="1366920"/>
            <a:ext cx="582120" cy="331200"/>
            <a:chOff x="461808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65336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0580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808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148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016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4020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808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1808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40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164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88700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4144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1812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932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84308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351320" y="3030480"/>
            <a:ext cx="582120" cy="331560"/>
            <a:chOff x="4351320" y="3030480"/>
            <a:chExt cx="582120" cy="331560"/>
          </a:xfrm>
        </p:grpSpPr>
        <p:sp>
          <p:nvSpPr>
            <p:cNvPr id="106" name=""/>
            <p:cNvSpPr/>
            <p:nvPr/>
          </p:nvSpPr>
          <p:spPr>
            <a:xfrm>
              <a:off x="438660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3904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51320" y="321372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1472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33400" y="311076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344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5132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132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34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6488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62024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4680" y="303048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5136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665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57632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14:22Z</dcterms:modified>
  <cp:revision>33</cp:revision>
  <dc:subject/>
  <dc:title>No Slide Title</dc:title>
</cp:coreProperties>
</file>