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2CCD-04C1-41B7-9D2E-321B1B815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FC2D-1012-4D78-AEBB-EFCC7A47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48B3-DD55-49E6-8D1F-817AA881E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4BE2-80DF-4D18-A611-CF8DFFE54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B3B0-2553-4CD9-BE36-CDDEF6C5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E8DD-340A-464E-8F89-B6A93B2F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9F7A-2D37-496A-9463-DF7FF67B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0647-F2B9-4912-8A54-DFD13CA0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FDC8-822C-476C-9E10-52F9886B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3909-3393-4D53-9B0A-64CA187D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3A99-D33A-4FA7-96D8-DEA721CF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03F8-CF78-41FE-9BDE-A01FAE01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1184-C5AD-4EEB-AE55-E8AD254E0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859280" y="3030480"/>
            <a:ext cx="582480" cy="331560"/>
            <a:chOff x="4859280" y="3030480"/>
            <a:chExt cx="582480" cy="331560"/>
          </a:xfrm>
        </p:grpSpPr>
        <p:sp>
          <p:nvSpPr>
            <p:cNvPr id="42" name=""/>
            <p:cNvSpPr/>
            <p:nvPr/>
          </p:nvSpPr>
          <p:spPr>
            <a:xfrm>
              <a:off x="4894560" y="31946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247360" y="31946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859280" y="3213720"/>
              <a:ext cx="56808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23040" y="32706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41360" y="3110760"/>
              <a:ext cx="7236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081760" y="31410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59280" y="30938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59280" y="32468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8176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7284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6200000">
              <a:off x="5128200" y="32896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83000" y="3030480"/>
              <a:ext cx="15228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59680" y="30423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6200000">
              <a:off x="517320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508428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321000" y="3381480"/>
            <a:ext cx="327348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90920" y="2603520"/>
            <a:ext cx="10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68760" y="4089240"/>
            <a:ext cx="7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FIN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775040" y="1763280"/>
            <a:ext cx="133200" cy="630360"/>
            <a:chOff x="4775040" y="1763280"/>
            <a:chExt cx="133200" cy="630360"/>
          </a:xfrm>
        </p:grpSpPr>
        <p:sp>
          <p:nvSpPr>
            <p:cNvPr id="61" name=""/>
            <p:cNvSpPr/>
            <p:nvPr/>
          </p:nvSpPr>
          <p:spPr>
            <a:xfrm flipH="1" rot="5400000">
              <a:off x="4707360" y="1830600"/>
              <a:ext cx="268200" cy="13320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4775040" y="176364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809600" y="3452400"/>
            <a:ext cx="183960" cy="630360"/>
            <a:chOff x="4809600" y="3452400"/>
            <a:chExt cx="183960" cy="630360"/>
          </a:xfrm>
        </p:grpSpPr>
        <p:sp>
          <p:nvSpPr>
            <p:cNvPr id="64" name=""/>
            <p:cNvSpPr/>
            <p:nvPr/>
          </p:nvSpPr>
          <p:spPr>
            <a:xfrm flipH="1" rot="5400000">
              <a:off x="4767120" y="3494520"/>
              <a:ext cx="268200" cy="1839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4809960" y="345276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835440" y="53964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OURCE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3240" y="2433600"/>
            <a:ext cx="87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SHOT 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99320" y="3782880"/>
            <a:ext cx="94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10000" y="4368960"/>
            <a:ext cx="2919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c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2 vibes centered over sh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3 swe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3040" y="1009800"/>
            <a:ext cx="8007120" cy="510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73400" y="1066680"/>
            <a:ext cx="14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TWO VIB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211640" y="1366920"/>
            <a:ext cx="582120" cy="331200"/>
            <a:chOff x="4211640" y="1366920"/>
            <a:chExt cx="582120" cy="331200"/>
          </a:xfrm>
        </p:grpSpPr>
        <p:sp>
          <p:nvSpPr>
            <p:cNvPr id="73" name=""/>
            <p:cNvSpPr/>
            <p:nvPr/>
          </p:nvSpPr>
          <p:spPr>
            <a:xfrm>
              <a:off x="4246920" y="153072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99360" y="153072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11640" y="1549800"/>
              <a:ext cx="567720" cy="6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5040" y="160668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293720" y="144684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433760" y="14774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11640" y="14302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11640" y="15832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43376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2520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4480560" y="162576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35000" y="1366920"/>
              <a:ext cx="151920" cy="199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11680" y="13788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452556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443664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257640" y="1717560"/>
            <a:ext cx="3273480" cy="1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834080" y="1379520"/>
            <a:ext cx="582120" cy="331560"/>
            <a:chOff x="4834080" y="1379520"/>
            <a:chExt cx="582120" cy="331560"/>
          </a:xfrm>
        </p:grpSpPr>
        <p:sp>
          <p:nvSpPr>
            <p:cNvPr id="90" name=""/>
            <p:cNvSpPr/>
            <p:nvPr/>
          </p:nvSpPr>
          <p:spPr>
            <a:xfrm>
              <a:off x="4869360" y="154368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21800" y="154368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34080" y="1562760"/>
              <a:ext cx="56772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397480" y="161964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16160" y="145980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056200" y="14900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34080" y="14428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34080" y="15958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56200" y="142848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47640" y="142848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6200000">
              <a:off x="5103000" y="163872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57440" y="1379520"/>
              <a:ext cx="15192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334120" y="13914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6200000">
              <a:off x="5148000" y="13986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5059080" y="13986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224240" y="3030480"/>
            <a:ext cx="582480" cy="331560"/>
            <a:chOff x="4224240" y="3030480"/>
            <a:chExt cx="582480" cy="331560"/>
          </a:xfrm>
        </p:grpSpPr>
        <p:sp>
          <p:nvSpPr>
            <p:cNvPr id="106" name=""/>
            <p:cNvSpPr/>
            <p:nvPr/>
          </p:nvSpPr>
          <p:spPr>
            <a:xfrm>
              <a:off x="4259520" y="31946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12320" y="31946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24240" y="3213720"/>
              <a:ext cx="56808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88000" y="32706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06320" y="3110760"/>
              <a:ext cx="7236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46720" y="31410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24240" y="30938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24240" y="32468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4672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3780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6200000">
              <a:off x="4493160" y="32896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47960" y="3030480"/>
              <a:ext cx="15228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24640" y="30423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453816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444924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22:27:39Z</dcterms:created>
  <dc:creator>Javier Guevara.</dc:creator>
  <dc:description/>
  <dc:language>en-US</dc:language>
  <cp:lastModifiedBy>V2operator</cp:lastModifiedBy>
  <dcterms:modified xsi:type="dcterms:W3CDTF">2007-06-08T08:09:26Z</dcterms:modified>
  <cp:revision>32</cp:revision>
  <dc:subject/>
  <dc:title>No Slide Title</dc:title>
</cp:coreProperties>
</file>