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0E7-4022-4CC3-BDDB-C776C2D9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051-171E-4706-BEAA-758CBC96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670-7646-4354-8006-D10AA051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5DB-3182-43AD-9913-EB721657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9C4-E624-4277-98E3-8C8AE5CB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258-8AF5-451C-856C-12722BF8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488-6706-4F66-BDE2-DA3E79A7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3A3-96E3-4828-A29F-4CD27B31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5BD-63FC-4AB0-A1ED-F5795A8A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A48-8417-40DE-B298-94723F7E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5452-EED9-447B-84E3-526622CB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C2F-0492-4DCD-B627-F3887881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7E50-70DB-4DF1-9769-B5EBD35A0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ir gun 4 pops p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T2</cp:lastModifiedBy>
  <dcterms:modified xsi:type="dcterms:W3CDTF">2007-10-08T23:21:42Z</dcterms:modified>
  <cp:revision>33</cp:revision>
  <dc:subject/>
  <dc:title>No Slide Title</dc:title>
</cp:coreProperties>
</file>