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E4E9B-504C-438B-9693-634D9319A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003C8-E00E-4FAB-924B-A63A85B52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0FE6C-35E1-4564-A180-A55EAB931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D1063-C934-47ED-9CCD-4CE9FE1F1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84B53-AF7C-4DD4-AC4C-4DEECCDFB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C6513-440F-4C47-A94E-FC2DA67F2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324E2-04BF-4715-8FC0-79826C80E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77E12-C11B-47C9-BCEA-8F6AE9FD2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5B734-BAD0-4F60-97F4-BCFF1D091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6F083-CCCD-4385-AE96-350F6E9B5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764F4-3295-43DB-BCBA-E6E196666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0A342-FAD9-4E1B-8998-AA4983B8C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F6921-1275-47E9-9F28-2AB7E1C4CF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4859280" y="3030480"/>
            <a:ext cx="582480" cy="331560"/>
            <a:chOff x="4859280" y="3030480"/>
            <a:chExt cx="582480" cy="331560"/>
          </a:xfrm>
        </p:grpSpPr>
        <p:sp>
          <p:nvSpPr>
            <p:cNvPr id="42" name=""/>
            <p:cNvSpPr/>
            <p:nvPr/>
          </p:nvSpPr>
          <p:spPr>
            <a:xfrm>
              <a:off x="4894560" y="3194640"/>
              <a:ext cx="167760" cy="1508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247360" y="3194640"/>
              <a:ext cx="168840" cy="1508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4859280" y="3213720"/>
              <a:ext cx="568080" cy="658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423040" y="3270600"/>
              <a:ext cx="18720" cy="46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941360" y="3110760"/>
              <a:ext cx="72360" cy="1238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081760" y="3141000"/>
              <a:ext cx="111960" cy="777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859280" y="3093840"/>
              <a:ext cx="39960" cy="1641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59280" y="3246840"/>
              <a:ext cx="25560" cy="770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081760" y="3079440"/>
              <a:ext cx="20880" cy="2581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72840" y="3079440"/>
              <a:ext cx="20880" cy="2581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rot="16200000">
              <a:off x="5128200" y="3289680"/>
              <a:ext cx="21240" cy="1234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283000" y="3030480"/>
              <a:ext cx="152280" cy="199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359680" y="3042360"/>
              <a:ext cx="63360" cy="892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rot="16200000">
              <a:off x="5173200" y="3049560"/>
              <a:ext cx="21240" cy="37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rot="16200000">
              <a:off x="5084280" y="3049560"/>
              <a:ext cx="21240" cy="37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321000" y="3381480"/>
            <a:ext cx="3273480" cy="12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390920" y="2603520"/>
            <a:ext cx="109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68760" y="4089240"/>
            <a:ext cx="76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FINI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4775040" y="1763280"/>
            <a:ext cx="133200" cy="630360"/>
            <a:chOff x="4775040" y="1763280"/>
            <a:chExt cx="133200" cy="630360"/>
          </a:xfrm>
        </p:grpSpPr>
        <p:sp>
          <p:nvSpPr>
            <p:cNvPr id="61" name=""/>
            <p:cNvSpPr/>
            <p:nvPr/>
          </p:nvSpPr>
          <p:spPr>
            <a:xfrm flipH="1" rot="5400000">
              <a:off x="4707360" y="1830600"/>
              <a:ext cx="268200" cy="133200"/>
            </a:xfrm>
            <a:prstGeom prst="triangle">
              <a:avLst>
                <a:gd name="adj" fmla="val 50000"/>
              </a:avLst>
            </a:prstGeom>
            <a:solidFill>
              <a:srgbClr val="3333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>
              <a:off x="4775040" y="1763640"/>
              <a:ext cx="0" cy="63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809600" y="3452400"/>
            <a:ext cx="183960" cy="630360"/>
            <a:chOff x="4809600" y="3452400"/>
            <a:chExt cx="183960" cy="630360"/>
          </a:xfrm>
        </p:grpSpPr>
        <p:sp>
          <p:nvSpPr>
            <p:cNvPr id="64" name=""/>
            <p:cNvSpPr/>
            <p:nvPr/>
          </p:nvSpPr>
          <p:spPr>
            <a:xfrm flipH="1" rot="5400000">
              <a:off x="4767120" y="3494520"/>
              <a:ext cx="268200" cy="183960"/>
            </a:xfrm>
            <a:prstGeom prst="triangle">
              <a:avLst>
                <a:gd name="adj" fmla="val 50000"/>
              </a:avLst>
            </a:prstGeom>
            <a:solidFill>
              <a:srgbClr val="3333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>
              <a:off x="4809960" y="3452760"/>
              <a:ext cx="0" cy="63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3835440" y="539640"/>
            <a:ext cx="146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SOURCE ARR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413240" y="2433600"/>
            <a:ext cx="87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Sans Unicode"/>
              </a:rPr>
              <a:t>SHOT POI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899320" y="3782880"/>
            <a:ext cx="942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Sans Unicode"/>
              </a:rPr>
              <a:t>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510000" y="4368960"/>
            <a:ext cx="29192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               </a:t>
            </a: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Stack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2 vibes centered over sho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              </a:t>
            </a: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3 sweeps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Air gun 4 pops per sho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43040" y="1009800"/>
            <a:ext cx="8007120" cy="5105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073400" y="1066680"/>
            <a:ext cx="141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 Unicode"/>
              </a:rPr>
              <a:t>TWO VIB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4211640" y="1366920"/>
            <a:ext cx="582120" cy="331200"/>
            <a:chOff x="4211640" y="1366920"/>
            <a:chExt cx="582120" cy="331200"/>
          </a:xfrm>
        </p:grpSpPr>
        <p:sp>
          <p:nvSpPr>
            <p:cNvPr id="73" name=""/>
            <p:cNvSpPr/>
            <p:nvPr/>
          </p:nvSpPr>
          <p:spPr>
            <a:xfrm>
              <a:off x="4246920" y="1530720"/>
              <a:ext cx="167760" cy="1508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599360" y="1530720"/>
              <a:ext cx="168840" cy="1508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211640" y="1549800"/>
              <a:ext cx="567720" cy="655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775040" y="1606680"/>
              <a:ext cx="18720" cy="46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293720" y="1446840"/>
              <a:ext cx="72000" cy="1238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433760" y="1477440"/>
              <a:ext cx="111960" cy="777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11640" y="1430280"/>
              <a:ext cx="39960" cy="1641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211640" y="1583280"/>
              <a:ext cx="25560" cy="770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433760" y="1415880"/>
              <a:ext cx="20880" cy="2577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525200" y="1415880"/>
              <a:ext cx="20880" cy="2577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rot="16200000">
              <a:off x="4480560" y="1625760"/>
              <a:ext cx="21240" cy="1234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635000" y="1366920"/>
              <a:ext cx="151920" cy="1994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711680" y="1378800"/>
              <a:ext cx="63360" cy="892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rot="16200000">
              <a:off x="4525560" y="1386000"/>
              <a:ext cx="21240" cy="37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rot="16200000">
              <a:off x="4436640" y="1386000"/>
              <a:ext cx="21240" cy="37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" name=""/>
          <p:cNvSpPr/>
          <p:nvPr/>
        </p:nvSpPr>
        <p:spPr>
          <a:xfrm>
            <a:off x="3257640" y="1717560"/>
            <a:ext cx="3273480" cy="12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4834080" y="1379520"/>
            <a:ext cx="582120" cy="331560"/>
            <a:chOff x="4834080" y="1379520"/>
            <a:chExt cx="582120" cy="331560"/>
          </a:xfrm>
        </p:grpSpPr>
        <p:sp>
          <p:nvSpPr>
            <p:cNvPr id="90" name=""/>
            <p:cNvSpPr/>
            <p:nvPr/>
          </p:nvSpPr>
          <p:spPr>
            <a:xfrm>
              <a:off x="4869360" y="1543680"/>
              <a:ext cx="167760" cy="1508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21800" y="1543680"/>
              <a:ext cx="168840" cy="1508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34080" y="1562760"/>
              <a:ext cx="567720" cy="658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397480" y="1619640"/>
              <a:ext cx="18720" cy="46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916160" y="1459800"/>
              <a:ext cx="72000" cy="1238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056200" y="1490040"/>
              <a:ext cx="111960" cy="777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834080" y="1442880"/>
              <a:ext cx="39960" cy="1641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34080" y="1595880"/>
              <a:ext cx="25560" cy="770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056200" y="1428480"/>
              <a:ext cx="20880" cy="2581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147640" y="1428480"/>
              <a:ext cx="20880" cy="2581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rot="16200000">
              <a:off x="5103000" y="1638720"/>
              <a:ext cx="21240" cy="1234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257440" y="1379520"/>
              <a:ext cx="151920" cy="199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334120" y="1391400"/>
              <a:ext cx="63360" cy="892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rot="16200000">
              <a:off x="5148000" y="1398600"/>
              <a:ext cx="21240" cy="37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16200000">
              <a:off x="5059080" y="1398600"/>
              <a:ext cx="21240" cy="37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4224240" y="3030480"/>
            <a:ext cx="582480" cy="331560"/>
            <a:chOff x="4224240" y="3030480"/>
            <a:chExt cx="582480" cy="331560"/>
          </a:xfrm>
        </p:grpSpPr>
        <p:sp>
          <p:nvSpPr>
            <p:cNvPr id="106" name=""/>
            <p:cNvSpPr/>
            <p:nvPr/>
          </p:nvSpPr>
          <p:spPr>
            <a:xfrm>
              <a:off x="4259520" y="3194640"/>
              <a:ext cx="167760" cy="1508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612320" y="3194640"/>
              <a:ext cx="168840" cy="1508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224240" y="3213720"/>
              <a:ext cx="568080" cy="658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788000" y="3270600"/>
              <a:ext cx="18720" cy="46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306320" y="3110760"/>
              <a:ext cx="72360" cy="1238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446720" y="3141000"/>
              <a:ext cx="111960" cy="777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224240" y="3093840"/>
              <a:ext cx="39960" cy="1641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224240" y="3246840"/>
              <a:ext cx="25560" cy="770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446720" y="3079440"/>
              <a:ext cx="20880" cy="2581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537800" y="3079440"/>
              <a:ext cx="20880" cy="2581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rot="16200000">
              <a:off x="4493160" y="3289680"/>
              <a:ext cx="21240" cy="1234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647960" y="3030480"/>
              <a:ext cx="152280" cy="199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724640" y="3042360"/>
              <a:ext cx="63360" cy="892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rot="16200000">
              <a:off x="4538160" y="3049560"/>
              <a:ext cx="21240" cy="37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16200000">
              <a:off x="4449240" y="3049560"/>
              <a:ext cx="21240" cy="37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2T22:27:39Z</dcterms:created>
  <dc:creator>Javier Guevara.</dc:creator>
  <dc:description/>
  <dc:language>en-US</dc:language>
  <cp:lastModifiedBy>T2</cp:lastModifiedBy>
  <dcterms:modified xsi:type="dcterms:W3CDTF">2007-09-30T17:49:14Z</dcterms:modified>
  <cp:revision>33</cp:revision>
  <dc:subject/>
  <dc:title>No Slide Title</dc:title>
</cp:coreProperties>
</file>