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51A03-0DDF-4A05-BCBD-94D908259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21384-E790-4F63-8557-FE63E7E98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ECD01-9E21-413B-8173-4BF00F0B8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72EE9-0837-46BF-98C2-8315704BF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EB939-A093-4FF9-B4BC-12A25AA65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D1739-64C2-4864-85B3-0A6A199FD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02959-61A0-4F51-9DCA-3951DE043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0259A-3103-4C69-986C-DFDA64B8A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C22B8-11D3-4B83-B873-495FF3DA3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67B77-ED1B-4195-A775-B6D5B140C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AB908-25C1-4F1A-9FB9-20DEE709F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6D75F-09DF-4BF7-B39C-182C69A62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11385-07B4-4F1E-A47C-F66DDE3912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4973760" y="3005280"/>
            <a:ext cx="582120" cy="331200"/>
            <a:chOff x="4973760" y="3005280"/>
            <a:chExt cx="582120" cy="331200"/>
          </a:xfrm>
        </p:grpSpPr>
        <p:sp>
          <p:nvSpPr>
            <p:cNvPr id="42" name=""/>
            <p:cNvSpPr/>
            <p:nvPr/>
          </p:nvSpPr>
          <p:spPr>
            <a:xfrm>
              <a:off x="5009040" y="3169080"/>
              <a:ext cx="167760" cy="1508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361480" y="3169080"/>
              <a:ext cx="168840" cy="1508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4973760" y="3188160"/>
              <a:ext cx="567720" cy="655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537160" y="3245040"/>
              <a:ext cx="18720" cy="46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5055840" y="3085200"/>
              <a:ext cx="72000" cy="1238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195880" y="3115800"/>
              <a:ext cx="111960" cy="777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973760" y="3068640"/>
              <a:ext cx="39960" cy="1641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973760" y="3221640"/>
              <a:ext cx="25560" cy="770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95880" y="3054240"/>
              <a:ext cx="20880" cy="2577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287320" y="3054240"/>
              <a:ext cx="20880" cy="2577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rot="16200000">
              <a:off x="5242680" y="3264120"/>
              <a:ext cx="21240" cy="1234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397120" y="3005280"/>
              <a:ext cx="151920" cy="1994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473800" y="3017160"/>
              <a:ext cx="63360" cy="892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rot="16200000">
              <a:off x="5287680" y="3024360"/>
              <a:ext cx="21240" cy="37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rot="16200000">
              <a:off x="5198760" y="3024360"/>
              <a:ext cx="21240" cy="37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321000" y="3381480"/>
            <a:ext cx="3273480" cy="12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390920" y="2603520"/>
            <a:ext cx="109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68760" y="4089240"/>
            <a:ext cx="76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FINI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4775040" y="1763280"/>
            <a:ext cx="133200" cy="630360"/>
            <a:chOff x="4775040" y="1763280"/>
            <a:chExt cx="133200" cy="630360"/>
          </a:xfrm>
        </p:grpSpPr>
        <p:sp>
          <p:nvSpPr>
            <p:cNvPr id="61" name=""/>
            <p:cNvSpPr/>
            <p:nvPr/>
          </p:nvSpPr>
          <p:spPr>
            <a:xfrm flipH="1" rot="5400000">
              <a:off x="4707360" y="1830600"/>
              <a:ext cx="268200" cy="133200"/>
            </a:xfrm>
            <a:prstGeom prst="triangle">
              <a:avLst>
                <a:gd name="adj" fmla="val 50000"/>
              </a:avLst>
            </a:prstGeom>
            <a:solidFill>
              <a:srgbClr val="3333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>
              <a:off x="4775040" y="1763640"/>
              <a:ext cx="0" cy="63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809600" y="3452400"/>
            <a:ext cx="183960" cy="630360"/>
            <a:chOff x="4809600" y="3452400"/>
            <a:chExt cx="183960" cy="630360"/>
          </a:xfrm>
        </p:grpSpPr>
        <p:sp>
          <p:nvSpPr>
            <p:cNvPr id="64" name=""/>
            <p:cNvSpPr/>
            <p:nvPr/>
          </p:nvSpPr>
          <p:spPr>
            <a:xfrm flipH="1" rot="5400000">
              <a:off x="4767120" y="3494520"/>
              <a:ext cx="268200" cy="183960"/>
            </a:xfrm>
            <a:prstGeom prst="triangle">
              <a:avLst>
                <a:gd name="adj" fmla="val 50000"/>
              </a:avLst>
            </a:prstGeom>
            <a:solidFill>
              <a:srgbClr val="3333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>
              <a:off x="4809960" y="3452760"/>
              <a:ext cx="0" cy="63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3835440" y="539640"/>
            <a:ext cx="146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SOURCE ARR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413240" y="2433600"/>
            <a:ext cx="87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Sans Unicode"/>
              </a:rPr>
              <a:t>SHOT POI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899320" y="3782880"/>
            <a:ext cx="942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Sans Unicode"/>
              </a:rPr>
              <a:t>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510000" y="4368960"/>
            <a:ext cx="291924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               </a:t>
            </a: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Drag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Start first vibes back ti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         </a:t>
            </a: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1 meter move up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ending on second vib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              </a:t>
            </a: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Front ti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              </a:t>
            </a: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3 swee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43040" y="1009800"/>
            <a:ext cx="8007120" cy="5105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073400" y="1066680"/>
            <a:ext cx="141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 Unicode"/>
              </a:rPr>
              <a:t>TWO VIB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970440" y="1392120"/>
            <a:ext cx="582120" cy="331560"/>
            <a:chOff x="3970440" y="1392120"/>
            <a:chExt cx="582120" cy="331560"/>
          </a:xfrm>
        </p:grpSpPr>
        <p:sp>
          <p:nvSpPr>
            <p:cNvPr id="73" name=""/>
            <p:cNvSpPr/>
            <p:nvPr/>
          </p:nvSpPr>
          <p:spPr>
            <a:xfrm>
              <a:off x="4005720" y="1556280"/>
              <a:ext cx="167760" cy="1508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358160" y="1556280"/>
              <a:ext cx="168840" cy="1508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970440" y="1575360"/>
              <a:ext cx="567720" cy="658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533840" y="1632240"/>
              <a:ext cx="18720" cy="46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052520" y="1472400"/>
              <a:ext cx="72000" cy="1238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192560" y="1502640"/>
              <a:ext cx="111960" cy="777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970440" y="1455480"/>
              <a:ext cx="39960" cy="1641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970440" y="1608480"/>
              <a:ext cx="25560" cy="770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192560" y="1441080"/>
              <a:ext cx="20880" cy="2581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284000" y="1441080"/>
              <a:ext cx="20880" cy="2581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rot="16200000">
              <a:off x="4239360" y="1651320"/>
              <a:ext cx="21240" cy="1234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393800" y="1392120"/>
              <a:ext cx="151920" cy="199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470480" y="1404000"/>
              <a:ext cx="63360" cy="892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rot="16200000">
              <a:off x="4284360" y="1411200"/>
              <a:ext cx="21240" cy="37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rot="16200000">
              <a:off x="4195440" y="1411200"/>
              <a:ext cx="21240" cy="37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" name=""/>
          <p:cNvSpPr/>
          <p:nvPr/>
        </p:nvSpPr>
        <p:spPr>
          <a:xfrm>
            <a:off x="3257640" y="1717560"/>
            <a:ext cx="3273480" cy="12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4618080" y="1366920"/>
            <a:ext cx="582120" cy="331200"/>
            <a:chOff x="4618080" y="1366920"/>
            <a:chExt cx="582120" cy="331200"/>
          </a:xfrm>
        </p:grpSpPr>
        <p:sp>
          <p:nvSpPr>
            <p:cNvPr id="90" name=""/>
            <p:cNvSpPr/>
            <p:nvPr/>
          </p:nvSpPr>
          <p:spPr>
            <a:xfrm>
              <a:off x="4653360" y="1530720"/>
              <a:ext cx="167760" cy="1508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005800" y="1530720"/>
              <a:ext cx="168840" cy="1508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618080" y="1549800"/>
              <a:ext cx="567720" cy="655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181480" y="1606680"/>
              <a:ext cx="18720" cy="46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700160" y="1446840"/>
              <a:ext cx="72000" cy="1238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840200" y="1477440"/>
              <a:ext cx="111960" cy="777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8080" y="1430280"/>
              <a:ext cx="39960" cy="1641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618080" y="1583280"/>
              <a:ext cx="25560" cy="770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840200" y="1415880"/>
              <a:ext cx="20880" cy="2577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931640" y="1415880"/>
              <a:ext cx="20880" cy="2577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rot="16200000">
              <a:off x="4887000" y="1625760"/>
              <a:ext cx="21240" cy="1234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041440" y="1366920"/>
              <a:ext cx="151920" cy="1994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118120" y="1378800"/>
              <a:ext cx="63360" cy="892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rot="16200000">
              <a:off x="4932000" y="1386000"/>
              <a:ext cx="21240" cy="37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16200000">
              <a:off x="4843080" y="1386000"/>
              <a:ext cx="21240" cy="37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4351320" y="3030480"/>
            <a:ext cx="582120" cy="331560"/>
            <a:chOff x="4351320" y="3030480"/>
            <a:chExt cx="582120" cy="331560"/>
          </a:xfrm>
        </p:grpSpPr>
        <p:sp>
          <p:nvSpPr>
            <p:cNvPr id="106" name=""/>
            <p:cNvSpPr/>
            <p:nvPr/>
          </p:nvSpPr>
          <p:spPr>
            <a:xfrm>
              <a:off x="4386600" y="3194640"/>
              <a:ext cx="167760" cy="1508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739040" y="3194640"/>
              <a:ext cx="168840" cy="1508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351320" y="3213720"/>
              <a:ext cx="567720" cy="658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914720" y="3270600"/>
              <a:ext cx="18720" cy="46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433400" y="3110760"/>
              <a:ext cx="72000" cy="1238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573440" y="3141000"/>
              <a:ext cx="111960" cy="777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351320" y="3093840"/>
              <a:ext cx="39960" cy="1641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351320" y="3246840"/>
              <a:ext cx="25560" cy="770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573440" y="3079440"/>
              <a:ext cx="20880" cy="2581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664880" y="3079440"/>
              <a:ext cx="20880" cy="2581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rot="16200000">
              <a:off x="4620240" y="3289680"/>
              <a:ext cx="21240" cy="1234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774680" y="3030480"/>
              <a:ext cx="151920" cy="199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851360" y="3042360"/>
              <a:ext cx="63360" cy="892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rot="16200000">
              <a:off x="4665240" y="3049560"/>
              <a:ext cx="21240" cy="37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16200000">
              <a:off x="4576320" y="3049560"/>
              <a:ext cx="21240" cy="37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2T22:27:39Z</dcterms:created>
  <dc:creator>Javier Guevara.</dc:creator>
  <dc:description/>
  <dc:language>en-US</dc:language>
  <cp:lastModifiedBy>V2operator</cp:lastModifiedBy>
  <dcterms:modified xsi:type="dcterms:W3CDTF">2007-06-08T08:14:22Z</dcterms:modified>
  <cp:revision>33</cp:revision>
  <dc:subject/>
  <dc:title>No Slide Title</dc:title>
</cp:coreProperties>
</file>