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719-CE23-4B13-AF29-91AC93FB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2EF-F3B7-4908-9B4B-9C62B80B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244-1B16-4115-A5D1-65DB827A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BCF-16AF-48E8-A671-C959C34C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53E-930A-4747-AE47-8BA32ABD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520-3A39-4F39-856D-BC99485C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ACA-21CD-4F8E-B8B4-1D92173F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1BF-F43F-43C6-9AE4-08B793B4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E7A-A590-4FBA-A2FC-A46DCBAF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1F9-EEDA-4DCD-87A5-0770BB64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5AA-7399-4465-916B-FD1651A2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D05-BF9C-4015-BA81-57FCA01D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626A-D31C-461D-B68B-F99DD26F5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 sweeps when on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pavement moving up .5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amp; AIR Gun 4 Blasts p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T2</cp:lastModifiedBy>
  <dcterms:modified xsi:type="dcterms:W3CDTF">2007-10-01T18:09:41Z</dcterms:modified>
  <cp:revision>35</cp:revision>
  <dc:subject/>
  <dc:title>No Slide Title</dc:title>
</cp:coreProperties>
</file>