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072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CE7-1EF9-4591-83B1-F4B608AF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8B0-97C1-4518-8E34-4CB48DD7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DA5-FFD4-4289-96D8-3BD65175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146-87F7-4977-B173-8F84E0AF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0AA-0E01-4F90-A7B1-CDBF7369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C25-C462-4479-8197-2A01EFAC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F49-51A2-4871-A92A-6C7EE117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8F0-DDAB-4A23-8269-C095D2E7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05A-C378-43DF-B14B-38A916A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A84-22ED-431F-A22E-B11F9C7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FBA-BDBE-4189-AD61-E8A1840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FA4-19D0-49FA-99A2-AFAB3E4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46C3-1C0A-4253-B96F-5C8580DAB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602160" y="3678120"/>
            <a:ext cx="582120" cy="331560"/>
            <a:chOff x="3602160" y="3678120"/>
            <a:chExt cx="582120" cy="331560"/>
          </a:xfrm>
        </p:grpSpPr>
        <p:sp>
          <p:nvSpPr>
            <p:cNvPr id="42" name=""/>
            <p:cNvSpPr/>
            <p:nvPr/>
          </p:nvSpPr>
          <p:spPr>
            <a:xfrm>
              <a:off x="3637440" y="38422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89880" y="38422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02160" y="386136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65560" y="39182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84240" y="375840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24280" y="378864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02160" y="374148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02160" y="389448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2428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572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3871080" y="39373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25520" y="367812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02200" y="369000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391608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382716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33480" y="220032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9880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27160" y="981000"/>
            <a:ext cx="29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6 Meters Between Vibes, 27m from pad of vibe 1 to pad of vib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67120" y="404172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74680" y="1561680"/>
            <a:ext cx="26766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5440" y="311148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08200" y="49528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73600" y="2271240"/>
            <a:ext cx="133200" cy="630360"/>
            <a:chOff x="3873600" y="2271240"/>
            <a:chExt cx="133200" cy="630360"/>
          </a:xfrm>
        </p:grpSpPr>
        <p:sp>
          <p:nvSpPr>
            <p:cNvPr id="66" name=""/>
            <p:cNvSpPr/>
            <p:nvPr/>
          </p:nvSpPr>
          <p:spPr>
            <a:xfrm flipH="1" rot="5400000">
              <a:off x="3805920" y="233856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873600" y="227160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334200" y="4087440"/>
            <a:ext cx="133200" cy="630360"/>
            <a:chOff x="6334200" y="4087440"/>
            <a:chExt cx="133200" cy="630360"/>
          </a:xfrm>
        </p:grpSpPr>
        <p:sp>
          <p:nvSpPr>
            <p:cNvPr id="69" name=""/>
            <p:cNvSpPr/>
            <p:nvPr/>
          </p:nvSpPr>
          <p:spPr>
            <a:xfrm flipH="1" rot="5400000">
              <a:off x="6266520" y="415476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334200" y="408780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789360" y="298440"/>
            <a:ext cx="187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GIONAL PARMA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11440" y="294156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00840" y="476100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#1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94520" y="3681360"/>
            <a:ext cx="582120" cy="331560"/>
            <a:chOff x="6194520" y="3681360"/>
            <a:chExt cx="582120" cy="331560"/>
          </a:xfrm>
        </p:grpSpPr>
        <p:sp>
          <p:nvSpPr>
            <p:cNvPr id="76" name=""/>
            <p:cNvSpPr/>
            <p:nvPr/>
          </p:nvSpPr>
          <p:spPr>
            <a:xfrm>
              <a:off x="6229800" y="384552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82240" y="384552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94520" y="386460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7920" y="392148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6600" y="376164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16640" y="379188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94520" y="374472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94520" y="389772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6640" y="373032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8080" y="373032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6463440" y="394056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7880" y="368136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4560" y="369324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6508440" y="370044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6419520" y="370044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960800" y="3678120"/>
            <a:ext cx="582480" cy="331560"/>
            <a:chOff x="4960800" y="3678120"/>
            <a:chExt cx="582480" cy="331560"/>
          </a:xfrm>
        </p:grpSpPr>
        <p:sp>
          <p:nvSpPr>
            <p:cNvPr id="92" name=""/>
            <p:cNvSpPr/>
            <p:nvPr/>
          </p:nvSpPr>
          <p:spPr>
            <a:xfrm>
              <a:off x="4996080" y="38422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48880" y="38422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60800" y="386136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24560" y="39182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2880" y="375840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3280" y="378864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60800" y="374148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60800" y="389448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8328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4360" y="37270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5229720" y="39373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84520" y="367812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61200" y="369000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27472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5185800" y="36972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871560" y="1874880"/>
            <a:ext cx="582120" cy="331560"/>
            <a:chOff x="871560" y="1874880"/>
            <a:chExt cx="582120" cy="331560"/>
          </a:xfrm>
        </p:grpSpPr>
        <p:sp>
          <p:nvSpPr>
            <p:cNvPr id="108" name=""/>
            <p:cNvSpPr/>
            <p:nvPr/>
          </p:nvSpPr>
          <p:spPr>
            <a:xfrm>
              <a:off x="90684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928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156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3496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5364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9368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7156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156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368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51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14048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492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118548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109656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421000" y="1874880"/>
            <a:ext cx="582120" cy="331560"/>
            <a:chOff x="2421000" y="1874880"/>
            <a:chExt cx="582120" cy="331560"/>
          </a:xfrm>
        </p:grpSpPr>
        <p:sp>
          <p:nvSpPr>
            <p:cNvPr id="124" name=""/>
            <p:cNvSpPr/>
            <p:nvPr/>
          </p:nvSpPr>
          <p:spPr>
            <a:xfrm>
              <a:off x="245628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0872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100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8440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308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4312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2100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100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31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3456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268992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4436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2104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273492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264600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589200" y="1874880"/>
            <a:ext cx="582480" cy="331560"/>
            <a:chOff x="3589200" y="1874880"/>
            <a:chExt cx="582480" cy="331560"/>
          </a:xfrm>
        </p:grpSpPr>
        <p:sp>
          <p:nvSpPr>
            <p:cNvPr id="140" name=""/>
            <p:cNvSpPr/>
            <p:nvPr/>
          </p:nvSpPr>
          <p:spPr>
            <a:xfrm>
              <a:off x="362448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7728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9200" y="205812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5296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71280" y="195516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168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920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920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168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0276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385812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2920" y="187488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8960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390312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381420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hree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20840" y="2246040"/>
            <a:ext cx="133200" cy="630360"/>
            <a:chOff x="1320840" y="2246040"/>
            <a:chExt cx="133200" cy="630360"/>
          </a:xfrm>
        </p:grpSpPr>
        <p:sp>
          <p:nvSpPr>
            <p:cNvPr id="157" name=""/>
            <p:cNvSpPr/>
            <p:nvPr/>
          </p:nvSpPr>
          <p:spPr>
            <a:xfrm flipH="1" rot="5400000">
              <a:off x="1253160" y="231336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320840" y="224640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76760" y="2908440"/>
            <a:ext cx="61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70360" y="4113000"/>
            <a:ext cx="133200" cy="630360"/>
            <a:chOff x="3870360" y="4113000"/>
            <a:chExt cx="133200" cy="630360"/>
          </a:xfrm>
        </p:grpSpPr>
        <p:sp>
          <p:nvSpPr>
            <p:cNvPr id="161" name=""/>
            <p:cNvSpPr/>
            <p:nvPr/>
          </p:nvSpPr>
          <p:spPr>
            <a:xfrm flipH="1" rot="5400000">
              <a:off x="3802680" y="418032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70360" y="41133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27640" y="4826160"/>
            <a:ext cx="615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6520" y="5549760"/>
            <a:ext cx="67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6 SWEEPS –5.4 m MOVEUP BETWEEN 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4m Total drag length from Start of last vibes pad to end of first vibes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6053040" y="1887480"/>
            <a:ext cx="582480" cy="331560"/>
            <a:chOff x="6053040" y="1887480"/>
            <a:chExt cx="582480" cy="331560"/>
          </a:xfrm>
        </p:grpSpPr>
        <p:sp>
          <p:nvSpPr>
            <p:cNvPr id="166" name=""/>
            <p:cNvSpPr/>
            <p:nvPr/>
          </p:nvSpPr>
          <p:spPr>
            <a:xfrm>
              <a:off x="6088320" y="20516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41120" y="20516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3040" y="207072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16800" y="21276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35120" y="196776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5520" y="19980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3040" y="19508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3040" y="21038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7552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6660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200000">
              <a:off x="6321960" y="21466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6760" y="188748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440" y="18993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636696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627804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933480" y="220032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6400" y="1562040"/>
            <a:ext cx="343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2880" y="1424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2928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1440" y="132408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1 Meters Between V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15040" y="221292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75360" y="156204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144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61240" y="1436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3111480"/>
            <a:ext cx="10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0280" y="30988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35440" y="2284200"/>
            <a:ext cx="133200" cy="630360"/>
            <a:chOff x="3835440" y="2284200"/>
            <a:chExt cx="133200" cy="630360"/>
          </a:xfrm>
        </p:grpSpPr>
        <p:sp>
          <p:nvSpPr>
            <p:cNvPr id="193" name=""/>
            <p:cNvSpPr/>
            <p:nvPr/>
          </p:nvSpPr>
          <p:spPr>
            <a:xfrm flipH="1" rot="5400000">
              <a:off x="3767760" y="235152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835440" y="22845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8315280" y="2296800"/>
            <a:ext cx="133200" cy="630360"/>
            <a:chOff x="8315280" y="2296800"/>
            <a:chExt cx="133200" cy="630360"/>
          </a:xfrm>
        </p:grpSpPr>
        <p:sp>
          <p:nvSpPr>
            <p:cNvPr id="196" name=""/>
            <p:cNvSpPr/>
            <p:nvPr/>
          </p:nvSpPr>
          <p:spPr>
            <a:xfrm flipH="1" rot="5400000">
              <a:off x="8247600" y="236412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315280" y="22971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11440" y="294156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65920" y="2932200"/>
            <a:ext cx="9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#1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3040" y="5033520"/>
            <a:ext cx="133200" cy="630360"/>
            <a:chOff x="3083040" y="5033520"/>
            <a:chExt cx="133200" cy="630360"/>
          </a:xfrm>
        </p:grpSpPr>
        <p:sp>
          <p:nvSpPr>
            <p:cNvPr id="202" name=""/>
            <p:cNvSpPr/>
            <p:nvPr/>
          </p:nvSpPr>
          <p:spPr>
            <a:xfrm flipH="1" rot="5400000">
              <a:off x="3015360" y="510084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083040" y="503388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207120" y="5033520"/>
            <a:ext cx="133200" cy="630360"/>
            <a:chOff x="6207120" y="5033520"/>
            <a:chExt cx="133200" cy="6303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6139440" y="510084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207120" y="503388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727360" y="5732640"/>
            <a:ext cx="64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 # 1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56920" y="5732640"/>
            <a:ext cx="58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t #1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05640" y="458460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97080" y="5661000"/>
            <a:ext cx="3121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31080" y="53276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60 me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48520" y="1903320"/>
            <a:ext cx="582480" cy="331560"/>
            <a:chOff x="8048520" y="1903320"/>
            <a:chExt cx="582480" cy="331560"/>
          </a:xfrm>
        </p:grpSpPr>
        <p:sp>
          <p:nvSpPr>
            <p:cNvPr id="214" name=""/>
            <p:cNvSpPr/>
            <p:nvPr/>
          </p:nvSpPr>
          <p:spPr>
            <a:xfrm>
              <a:off x="8083800" y="20674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36600" y="20674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48520" y="208656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2280" y="21434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30600" y="198360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71000" y="201384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48520" y="196668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48520" y="211968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71000" y="19522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62080" y="195228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8317440" y="21625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72240" y="190332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48920" y="191520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8362440" y="19224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8273520" y="192240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373880" y="1900080"/>
            <a:ext cx="582480" cy="331560"/>
            <a:chOff x="7373880" y="1900080"/>
            <a:chExt cx="582480" cy="331560"/>
          </a:xfrm>
        </p:grpSpPr>
        <p:sp>
          <p:nvSpPr>
            <p:cNvPr id="230" name=""/>
            <p:cNvSpPr/>
            <p:nvPr/>
          </p:nvSpPr>
          <p:spPr>
            <a:xfrm>
              <a:off x="7409160" y="20642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61960" y="20642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73880" y="2083320"/>
              <a:ext cx="56808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37640" y="21402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455960" y="198036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96360" y="20106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73880" y="19634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73880" y="21164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96360" y="19490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87440" y="19490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7642800" y="21592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97600" y="1900080"/>
              <a:ext cx="15228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74280" y="19119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7687800" y="19191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7598880" y="19191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582560" y="1862280"/>
            <a:ext cx="582480" cy="331200"/>
            <a:chOff x="1582560" y="1862280"/>
            <a:chExt cx="582480" cy="331200"/>
          </a:xfrm>
        </p:grpSpPr>
        <p:sp>
          <p:nvSpPr>
            <p:cNvPr id="246" name=""/>
            <p:cNvSpPr/>
            <p:nvPr/>
          </p:nvSpPr>
          <p:spPr>
            <a:xfrm>
              <a:off x="1617840" y="20260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70640" y="20260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82560" y="2045160"/>
              <a:ext cx="568080" cy="6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46320" y="21020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64640" y="1942200"/>
              <a:ext cx="7236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19728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82560" y="19256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2560" y="20786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504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9612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51480" y="21211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06280" y="1862280"/>
              <a:ext cx="152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82960" y="18741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189648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180756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30560" y="1874880"/>
            <a:ext cx="582120" cy="331560"/>
            <a:chOff x="2230560" y="1874880"/>
            <a:chExt cx="582120" cy="331560"/>
          </a:xfrm>
        </p:grpSpPr>
        <p:sp>
          <p:nvSpPr>
            <p:cNvPr id="262" name=""/>
            <p:cNvSpPr/>
            <p:nvPr/>
          </p:nvSpPr>
          <p:spPr>
            <a:xfrm>
              <a:off x="226584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1828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3056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9396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264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5268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3056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3056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5268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441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49948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5392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060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254448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245556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878200" y="1874880"/>
            <a:ext cx="582120" cy="331560"/>
            <a:chOff x="2878200" y="1874880"/>
            <a:chExt cx="582120" cy="331560"/>
          </a:xfrm>
        </p:grpSpPr>
        <p:sp>
          <p:nvSpPr>
            <p:cNvPr id="278" name=""/>
            <p:cNvSpPr/>
            <p:nvPr/>
          </p:nvSpPr>
          <p:spPr>
            <a:xfrm>
              <a:off x="2913480" y="20390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65920" y="20390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78200" y="20581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41600" y="21150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60280" y="19551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0320" y="19854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78200" y="19382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8200" y="20912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032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91760" y="19238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3147120" y="21340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1560" y="18748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78240" y="18867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319212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3103200" y="18939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551400" y="1862280"/>
            <a:ext cx="582120" cy="331200"/>
            <a:chOff x="3551400" y="1862280"/>
            <a:chExt cx="582120" cy="331200"/>
          </a:xfrm>
        </p:grpSpPr>
        <p:sp>
          <p:nvSpPr>
            <p:cNvPr id="294" name=""/>
            <p:cNvSpPr/>
            <p:nvPr/>
          </p:nvSpPr>
          <p:spPr>
            <a:xfrm>
              <a:off x="3586680" y="202608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39120" y="202608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51400" y="2045160"/>
              <a:ext cx="567720" cy="6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14800" y="210204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33480" y="194220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73520" y="19728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51400" y="19256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1400" y="20786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352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64960" y="1911240"/>
              <a:ext cx="208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3820320" y="212112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74760" y="1862280"/>
              <a:ext cx="15192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1440" y="18741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386532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3776400" y="18813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726240" y="1887480"/>
            <a:ext cx="582120" cy="331560"/>
            <a:chOff x="6726240" y="1887480"/>
            <a:chExt cx="582120" cy="331560"/>
          </a:xfrm>
        </p:grpSpPr>
        <p:sp>
          <p:nvSpPr>
            <p:cNvPr id="310" name=""/>
            <p:cNvSpPr/>
            <p:nvPr/>
          </p:nvSpPr>
          <p:spPr>
            <a:xfrm>
              <a:off x="6761520" y="2051640"/>
              <a:ext cx="1677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13960" y="2051640"/>
              <a:ext cx="168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6240" y="2070720"/>
              <a:ext cx="56772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89640" y="2127600"/>
              <a:ext cx="18720" cy="4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08320" y="1967760"/>
              <a:ext cx="720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48360" y="1998000"/>
              <a:ext cx="111960" cy="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26240" y="1950840"/>
              <a:ext cx="3996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26240" y="2103840"/>
              <a:ext cx="2556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4836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9800" y="1936440"/>
              <a:ext cx="20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6995160" y="2146680"/>
              <a:ext cx="2124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9600" y="1887480"/>
              <a:ext cx="15192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26280" y="1899360"/>
              <a:ext cx="63360" cy="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704016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951240" y="1906560"/>
              <a:ext cx="212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035600" y="1054080"/>
            <a:ext cx="11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Four Vibes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280" y="2273400"/>
            <a:ext cx="30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27 Meters from pad of vibe 1 to pad of vib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7-19T19:00:25Z</dcterms:modified>
  <cp:revision>29</cp:revision>
  <dc:subject/>
  <dc:title>No Slide Title</dc:title>
</cp:coreProperties>
</file>