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2FD8-4600-4BF9-8800-9120B531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303-0C6D-4D9D-9CCE-4574D9E4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AD3-DFED-4E69-8E38-FE044DD3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7E0-DBE6-4D12-ADC8-BC80D2E5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6CD-74A4-4CE5-AB73-1DF22D5F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F40-7BB8-4F4A-B0B5-987E623B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7A1-C8F5-48CF-9825-C140FCEE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FD6-F44B-47B3-B8AE-132B9D3A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96C-FCEB-4B32-8AF2-ECA605C3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8BE-B5AB-4354-8AAF-D23F1742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51F-2509-4EE0-91B1-6D7F1BB1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FB4-7010-42C1-83CA-E3B7A444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0EF7-EC4B-471F-9E00-0D7BA417E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1692360"/>
            <a:ext cx="329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86160" y="336852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46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49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V.P.  DRAG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rst pad start to last pad 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6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9560" y="5289480"/>
            <a:ext cx="6686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18 meter drag length from start position of vibe, to finishing pad position of the vi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Vibe starts 9m from the flag, moves 4.5m up for 2</a:t>
            </a:r>
            <a:r>
              <a:rPr b="0" lang="en-US" sz="11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 sweep.  Sweeps 3 &amp; 4 are center stacked on flag, sweep 5 is 4.5m past sp flag, and the 6</a:t>
            </a:r>
            <a:r>
              <a:rPr b="0" lang="en-US" sz="1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 sweep is 9m past the fla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17800" y="1353960"/>
            <a:ext cx="582480" cy="331560"/>
            <a:chOff x="3817800" y="1353960"/>
            <a:chExt cx="582480" cy="331560"/>
          </a:xfrm>
        </p:grpSpPr>
        <p:sp>
          <p:nvSpPr>
            <p:cNvPr id="58" name=""/>
            <p:cNvSpPr/>
            <p:nvPr/>
          </p:nvSpPr>
          <p:spPr>
            <a:xfrm>
              <a:off x="3853080" y="15181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05880" y="15181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17800" y="153720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81560" y="15940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99880" y="143424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40280" y="146448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17800" y="141732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17800" y="157032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40280" y="14029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31360" y="14029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4086720" y="16131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41520" y="135396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18200" y="136584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200000">
              <a:off x="4131720" y="13730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4042800" y="13730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189400" y="3017880"/>
            <a:ext cx="582480" cy="331560"/>
            <a:chOff x="5189400" y="3017880"/>
            <a:chExt cx="582480" cy="331560"/>
          </a:xfrm>
        </p:grpSpPr>
        <p:sp>
          <p:nvSpPr>
            <p:cNvPr id="74" name=""/>
            <p:cNvSpPr/>
            <p:nvPr/>
          </p:nvSpPr>
          <p:spPr>
            <a:xfrm>
              <a:off x="5224680" y="31820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77480" y="31820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89400" y="32011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53160" y="32580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1480" y="30981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1880" y="31284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89400" y="30812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89400" y="32342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11880" y="30668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02960" y="30668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5458320" y="32770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13120" y="30178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89800" y="30297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5503320" y="30369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5414400" y="30369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ONE V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Darryl</cp:lastModifiedBy>
  <dcterms:modified xsi:type="dcterms:W3CDTF">2004-06-21T14:46:52Z</dcterms:modified>
  <cp:revision>29</cp:revision>
  <dc:subject/>
  <dc:title>No Slide Title</dc:title>
</cp:coreProperties>
</file>