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7F8-3D2E-4F6C-971E-4546392A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A25-AB00-4912-8F4B-3D75945C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D62-4548-4D17-B0BE-A08B6A8F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E80-FD1B-4C84-995B-9875E92D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335-0587-49F4-8269-3303D1F0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2D9-59D0-4B0B-8BAD-E2B6AA44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A31-B89E-4452-B86D-EECED31B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796-107A-4B1F-A869-86FAEBB5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2EE-B05B-4FE0-945E-32B896C3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612-E80C-4BF9-AD57-5D90FC7B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7DC-1B14-44CB-901E-C79CF522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059-B8B7-4D71-A710-35D28969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BD46-7295-45B2-A386-E99F60131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54360" y="3043080"/>
            <a:ext cx="582480" cy="331560"/>
            <a:chOff x="4554360" y="30430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589640" y="32072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2440" y="32072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54360" y="32263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18120" y="32832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36440" y="31233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76840" y="31536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54360" y="31064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54360" y="32594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7684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792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4823280" y="33022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8080" y="30430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54760" y="30549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486828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77936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835280" y="169236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6160" y="336852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2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5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Last pad start to first pad 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, 4.5 meter move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6080" y="5378400"/>
            <a:ext cx="730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18 meter drag length from start position of second vibes pad to finishing pad position of the first vi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17800" y="1353960"/>
            <a:ext cx="582480" cy="331560"/>
            <a:chOff x="3817800" y="1353960"/>
            <a:chExt cx="582480" cy="331560"/>
          </a:xfrm>
        </p:grpSpPr>
        <p:sp>
          <p:nvSpPr>
            <p:cNvPr id="74" name=""/>
            <p:cNvSpPr/>
            <p:nvPr/>
          </p:nvSpPr>
          <p:spPr>
            <a:xfrm>
              <a:off x="3853080" y="15181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05880" y="15181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7800" y="153720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1560" y="15940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9880" y="143424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40280" y="146448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7800" y="141732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7800" y="157032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4028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3136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4086720" y="16131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1520" y="135396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8200" y="136584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3172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404280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91000" y="1366920"/>
            <a:ext cx="582120" cy="331200"/>
            <a:chOff x="449100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52628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872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100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5440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308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312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100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100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1312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45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75992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1436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80492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16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189400" y="3017880"/>
            <a:ext cx="582480" cy="331560"/>
            <a:chOff x="5189400" y="30178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5224680" y="31820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77480" y="31820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32011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53160" y="32580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1480" y="30981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1880" y="31284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0812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9400" y="32342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188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296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5458320" y="32770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120" y="30178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89800" y="30297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550332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541440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Darryl</cp:lastModifiedBy>
  <dcterms:modified xsi:type="dcterms:W3CDTF">2004-06-21T14:32:32Z</dcterms:modified>
  <cp:revision>28</cp:revision>
  <dc:subject/>
  <dc:title>No Slide Title</dc:title>
</cp:coreProperties>
</file>