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56C-3F97-4C12-ABE6-0594A78A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528-59B1-4176-850D-C0CBE7E1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0F3-56C2-4BF3-9450-1E8114AF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E49-009C-4740-8F71-73F0A346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DA2-1682-44E0-A21E-28D4BFE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DE0-A48C-4835-AA35-F38A9401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957-0572-48BA-BD80-42ED5F7C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F6D-0432-4966-A882-AB7CAB4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D85-4385-4589-A173-E07D156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C70-6C49-40D6-88EE-6DAC978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3A2-5D97-44F7-809F-0721E7C8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CCA-D5B5-4814-A5D4-526291C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32C4-F125-4E5B-AF20-0B5D7CC29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54360" y="3043080"/>
            <a:ext cx="582480" cy="331560"/>
            <a:chOff x="4554360" y="30430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58964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24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4360" y="32263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181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36440" y="31233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68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436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5436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68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92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482328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8080" y="30430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547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486828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77936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Last pad start to fir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, 4.5 meter mov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080" y="5378400"/>
            <a:ext cx="73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second vibes pad to finishing pad position of the first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1000" y="1366920"/>
            <a:ext cx="582120" cy="331200"/>
            <a:chOff x="449100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52628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872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100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5440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08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00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100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312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45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75992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436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80492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16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32:18Z</dcterms:modified>
  <cp:revision>28</cp:revision>
  <dc:subject/>
  <dc:title>No Slide Title</dc:title>
</cp:coreProperties>
</file>